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22.jpeg" ContentType="image/jpeg"/>
  <Override PartName="/ppt/media/image17.jpeg" ContentType="image/jpeg"/>
  <Override PartName="/ppt/media/image14.png" ContentType="image/pn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7980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4022280" y="0"/>
            <a:ext cx="307980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991800" y="766440"/>
            <a:ext cx="5119560" cy="383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402228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1598-8F3F-4770-8B80-E7C2611CAA2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6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4156-5D02-4A08-92B0-53317B318DB4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분석은 어떻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태워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7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EEA6-275C-490A-922B-E511469DF80C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처음엔 기름 성분의 흙에 명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불 자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원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물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원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4BF1-469B-49A0-BBFA-C214CA156779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C726-A4E7-419C-A3BC-43ADE5B0193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lvl="1" indent="0"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플로지스톤 이론은 다양한 현상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연소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식물의 성장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소화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호흡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금속의 융해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)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에 관한 일관적 설명을 제공함으로써 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18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세기 화학의 튼튼한 이론적 틀을 제공</a:t>
            </a:r>
            <a:endParaRPr b="0" lang="en-US" sz="23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D2DF-21B8-4EFC-AF2F-5E1B5E4DE555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lvl="1" marL="457200"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정치적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·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종교적으로 급진적 성향</a:t>
            </a:r>
            <a:endParaRPr b="0" lang="en-US" sz="23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ff"/>
                </a:solidFill>
                <a:latin typeface="맑은 고딕"/>
              </a:rPr>
              <a:t>타당성이 점차 의심되고 있었던 플로지스톤 이론의 약한 고리를 땜질하고 개량해나갔던 인물 </a:t>
            </a:r>
            <a:r>
              <a:rPr b="0" lang="ko-KR" sz="23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ko-KR" sz="2300" spc="-1" strike="noStrike">
                <a:solidFill>
                  <a:srgbClr val="0000ff"/>
                </a:solidFill>
                <a:latin typeface="맑은 고딕"/>
              </a:rPr>
              <a:t> 마지막까지 새로운 화학 이론을 받아들이지 않았음</a:t>
            </a:r>
            <a:endParaRPr b="0" lang="en-US" sz="23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프리스틀리는 요즈음 우리가 여름이면 즐겨 찾는 청량 음료를 처음 발명한 과학자이기도 하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탄산가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즉 그때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고정된 기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로 알려졌던 기체에 압력을 가해 물에 녹여 넣으면 천연 광천수처럼 거품이 나는 물이 된다는 것을 처음 알아낸 것이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 발명으로 그는 영국 왕립 학회의 가장 영광스런 명예라 할 수 있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코플리 메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을 받기도 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9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6BCF-824F-4C8C-93DA-F37073182CE4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E0D6-E95F-41CF-9085-BEA8EDE5A9B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6E0A-41C0-45F2-A736-BCD2B5F58BF1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0651-F566-4FEF-AF6D-9BF69578ED3C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프리스틀리는 이 공기 안에서 불꽃이 더 밝고 뜨겁게 타오르며 생쥐가 일반 공기에서보다 두 배 이상 오래 살 수 있음을 발견하였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 공기는 플로기스톤이 없으므로 가연성 물질에 포함된 플로기스톤과 쉽게 결합하여 연소 현상을 일으킨다는 것이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6A37-5EB7-4932-AC7B-1861392EC51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4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554B-2DCB-4FAC-9586-59622420FFDA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자칭 물리학자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물리학의 방법을 화학에 적용</a:t>
            </a:r>
            <a:endParaRPr b="0" lang="en-US" sz="23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&lt;</a:t>
            </a: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프린키피아</a:t>
            </a: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&gt;</a:t>
            </a: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의 확실성과 예측력 본받기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“</a:t>
            </a: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정량화 정신”</a:t>
            </a: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정밀 측정 </a:t>
            </a: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&amp; </a:t>
            </a: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수학적 형식화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왜 고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기체 한 방울도 빠져나가지 못하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또 아주 작은 무게도 정확하게 측정해야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7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958C-D598-47ED-8754-ADC4D9651EFD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질량보존의 법칙을 전제로 하고 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6319-3DF0-4CFE-B11A-ED865517AAE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3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5A05-3702-48CE-A228-1489434080C6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6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F363-4B06-4055-A29D-5089065D461A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vantGarde Bk BT"/>
              </a:rPr>
              <a:t>He heated mercury and air using a bell-jar for 12 days.  Red mercury calx (HgO) formed and the volume of air decreased from 50 to 42 in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vantGarde Bk BT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vantGarde Bk BT"/>
              </a:rPr>
              <a:t>. 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4387-1381-4B35-9568-FD2A3FE273E6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vantGarde Bk BT"/>
              </a:rPr>
              <a:t>The red [HgO] was heated in a retort producing 8 in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vantGarde Bk BT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vantGarde Bk BT"/>
              </a:rPr>
              <a:t> of dephlogisticated air [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vantGarde Bk BT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vantGarde Bk BT"/>
              </a:rPr>
              <a:t>]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2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071F-32E9-4996-9514-CE87C27CA7D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79CB-0949-410A-A4E4-16C0743689E5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lvl="1" indent="0"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새로운 공기’가 비금속물질들과 반응해 산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(acid)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를 만든다는 데서 착안해서 ‘산소</a:t>
            </a:r>
            <a:r>
              <a:rPr b="0" lang="en-US" sz="2300" spc="-1" strike="noStrike">
                <a:solidFill>
                  <a:srgbClr val="000000"/>
                </a:solidFill>
                <a:latin typeface="맑은 고딕"/>
              </a:rPr>
              <a:t>(oxigen)’</a:t>
            </a:r>
            <a:r>
              <a:rPr b="0" lang="ko-KR" sz="2300" spc="-1" strike="noStrike">
                <a:solidFill>
                  <a:srgbClr val="000000"/>
                </a:solidFill>
                <a:latin typeface="맑은 고딕"/>
              </a:rPr>
              <a:t>라 명명</a:t>
            </a:r>
            <a:endParaRPr b="0" lang="en-US" sz="23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E276-BAC9-4095-BE58-8934B9E52A28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9DDC-7187-4B94-A998-7EEDA606DA35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0A44-592D-407D-ADB2-137F22FCEB0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56DB-F221-4D1E-8181-ECF20E1685FF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8F77-DF35-4760-A609-14D5A102271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AAD2-022C-40D0-B43D-3909A7E51C5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F4C4-613A-4197-B517-EC2C0DF4917D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9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2A9A-7AA5-48F6-8981-91EF6A94A5C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AD2E-F3A2-4BF6-891A-05CCAE519CFF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39680" y="0"/>
            <a:ext cx="6824520" cy="511812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09200" y="5564160"/>
            <a:ext cx="5684760" cy="3903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4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성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냉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 대립쌍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원소의 성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4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성질 중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개의 조합으로 구성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성질이 바뀌면 원소도 바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5922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맑은 고딕"/>
            </a:endParaRPr>
          </a:p>
          <a:p>
            <a:pPr marL="5922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탁월한 설명력</a:t>
            </a:r>
            <a:endParaRPr b="0" lang="en-US" sz="1700" spc="-1" strike="noStrike">
              <a:solidFill>
                <a:srgbClr val="000000"/>
              </a:solidFill>
              <a:latin typeface="맑은 고딕"/>
            </a:endParaRPr>
          </a:p>
          <a:p>
            <a:pPr marL="59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* </a:t>
            </a:r>
            <a:r>
              <a:rPr b="0" lang="ko-KR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물을 가열하면 증발하는 이유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59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5922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연금술에 이론적 기반 제공</a:t>
            </a:r>
            <a:r>
              <a:rPr b="0" lang="en-US" sz="15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  <a:p>
            <a:pPr marL="59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화학 실험 도구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저울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금속 녹이는 도가니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플라스크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증류기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)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실험 방법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증류법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)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개발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여러 종류의 물질 추출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새로운 물질 이론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용어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연금술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/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화학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(alchemy/chemistry)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알코올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(alcohol)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알칼리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(alkali)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증류기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(alembic)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소다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(soda)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등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7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물질 이론 개량</a:t>
            </a:r>
            <a:r>
              <a:rPr b="0" lang="en-US" sz="25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황</a:t>
            </a:r>
            <a:r>
              <a:rPr b="0" lang="en-US" sz="25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수은</a:t>
            </a:r>
            <a:r>
              <a:rPr b="0" lang="en-US" sz="25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염 이론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7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연금술의 목적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후원자의 의도</a:t>
            </a: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영약 창조 </a:t>
            </a: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&amp; </a:t>
            </a: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금 변환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연금술사들의 목적</a:t>
            </a: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영혼의 정화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7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이후 영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실험장치와 증류법과 같은 실험기술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맑은 고딕"/>
              </a:rPr>
              <a:t>다양한 물질들 추출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목적하던 금은 만들지 못했지만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뜻하지도 않게 근대 화학의 기반을 닦았던 것이다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영국의 철학자 프랜시스 베이컨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(Francis Bacon;1561-1626)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은 연금술이 화학에 남긴 유산에 대하여 이솝의 우화를 예로 들어 설명했다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"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연금술은 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임종시에 아들들에게 포도밭에 금을 묻어 두었다고 유언을 남긴 어느 농부와 같다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그 말을 들은 아들들은 포도밭을 정신없이 파헤쳤지만 금은 나오지 않았다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대신 그해 가을의 포도 수확은 매우 풍성했다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이와 마찬가지로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금을 만들어 내려고 시도했던 많은 연금술사의 노력은 뜻하지 않은 새로운 발명과 화학의 진보를 가져왔다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 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2396-E3FA-4170-AADE-333C08A6E7D5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벨기에의 의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‘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혼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공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을 뜻하는 그리스어 카오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chaos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에서 이름을 따 기체를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가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gas) 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명명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F664-0E9E-436A-9700-D6DE8C843B9F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Robert Boyle, 1627- 1692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66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에 실험을 통해 쥐의 생명을 유지하는 데 신선한 공기가 필수적임을 보여 주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쥐를 넣은 용기를 밀폐시켰더니 쥐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시간 만에 죽었고 다시 그 용기에 다른 쥐를 넣었더니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분만에 죽은 것이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러나 보일은 호흡의 목적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바람이 체표면의 물을 말리는 것처럼 혈액 중에서 배설되는 휘발성 증기를 공기와 결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association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시켜 외부로 가지고 나오는 것이라고 생각하였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리고 이 휘발성 증기는 물질이 탈 때 나오는 검댕이나 연기와 마찬가지로 동물이 생명을 유지하지 못하도록 방해한다는 것이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일의 결론은 한번 호흡에 사용된 공기는 적어도 같은 종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8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FF18-11B1-4B32-B304-36851B7A33BA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1F75-319C-4FA5-B415-B297F6738FA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8476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고정된 공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산화탄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호흡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연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발효 시에 생성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가연성 공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수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탈 수 있는 기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플로지스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? (1776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빠진 공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질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초석의 공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산화 탄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불의 공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생명의 공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산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 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쉘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프리스틀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슬라이드 번호 개체 틀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5563-DC62-414C-805E-C01041F33D9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7881-6814-4B77-91DD-17613CE12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D172-2783-4DA6-9CE6-D0103BFB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E5C5-D587-4DA3-B854-EBFE0F6C5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6BA7-4E0E-4CB9-A688-A01CF97D8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DB16-7668-4CCF-9C0E-69BEB44F3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3CB5F-4DB6-45CD-83BD-F3F40EEC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1FB8-4051-49DA-9F3C-88CFD73D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60DB-EDEB-46F1-91D8-87B9B993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4472-E8BF-4859-AC44-E943A16D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C816-2E22-4550-AA6C-A7994A5C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BAF5-FDE5-4030-9BD7-00444576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4112-1CBD-4DAA-A01B-40437514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81AA-18B2-42E4-802E-37B81F4C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D031-7701-4450-89CE-5B453CCB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AB82-F77C-4636-9BD5-E082FDB6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8EDFF-2E81-474A-9A4F-7C4AF91E6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DDDE-C840-460C-B13D-857474068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53230E-5C85-48D3-86C8-0838A97C6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B09880-1D48-4550-97D0-2107C87D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415C1B-553F-42AB-8583-FC6694C0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7C29B5-7363-41F7-8AAD-34F6BDE8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ED5E77-3458-42DB-BD8F-D658303A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79EB-7742-4EB6-BCD8-702E1B1D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AC9CDB-9B24-4991-B87E-6AB8291E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4AEB3D-6CA9-46E0-A88B-DB935F50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FB3796-3928-4C9D-B9E8-2FE1A057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8012A4-2DAC-441E-94FD-4D94F1DB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E52EEA-025F-4A23-B0F0-255514FB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9A2618-604B-4D30-B59A-D4C1C5FA9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62E9B3-C5B4-43C1-942E-AF0EB127C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7FCED-C161-4272-992C-FC1833C2A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8B9FE-E82B-4645-87C2-D67F4E95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3D707-B02F-4137-ACCA-0C595265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6664-00FD-49EA-9C46-E46871A9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EDBB3-773A-4C3E-90D2-0CA7CE35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A3A19-1004-4A0D-91CE-469B3534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53D88-EA24-46A7-B6B8-AAE872F9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31D8A-3A8B-414A-B6A0-9B2BD640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23E91-2828-4902-8CEB-576DC6B8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283EF-D40B-424C-92D2-5A73B09A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21707-BB27-4FE9-9C06-6D0AD9D3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F7656-4436-46A4-98CE-6E252673F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5F518-CCE1-4480-829A-A4C3AC094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7882-34B1-4015-AAFB-34E008EF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9158-6CDB-41C9-9BD6-0056B6B4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9FB9-916B-4570-B91E-1D3462DA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966F-EB06-46E9-BCAA-FCEE25AE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433E-CF7B-4DF1-8B9F-62E57AC4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1" marL="343080" indent="-343080" algn="ctr"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2" marL="343080" indent="-343080" algn="ctr">
              <a:spcBef>
                <a:spcPts val="300"/>
              </a:spcBef>
              <a:buClr>
                <a:srgbClr val="53548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3" marL="343080" indent="-343080" algn="ctr">
              <a:spcBef>
                <a:spcPts val="300"/>
              </a:spcBef>
              <a:buClr>
                <a:srgbClr val="53548a"/>
              </a:buClr>
              <a:buFont typeface="Wingdings 2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4" marL="343080" indent="-343080" algn="ctr">
              <a:spcBef>
                <a:spcPts val="300"/>
              </a:spcBef>
              <a:buClr>
                <a:srgbClr val="a04da3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5" marL="343080" indent="-343080" algn="ctr">
              <a:spcBef>
                <a:spcPts val="300"/>
              </a:spcBef>
              <a:buClr>
                <a:srgbClr val="ffffff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6" marL="343080" indent="-343080" algn="ctr">
              <a:spcBef>
                <a:spcPts val="300"/>
              </a:spcBef>
              <a:buClr>
                <a:srgbClr val="ffffff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0F4F-D652-45D5-911B-ACEC9E49576A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직사각형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직사각형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직사각형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직사각형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직사각형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모서리가 둥근 직사각형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모서리가 둥근 직사각형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직사각형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직사각형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직사각형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1" marL="343080" indent="-343080" algn="ctr"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2" marL="343080" indent="-343080" algn="ctr">
              <a:spcBef>
                <a:spcPts val="300"/>
              </a:spcBef>
              <a:buClr>
                <a:srgbClr val="53548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3" marL="343080" indent="-343080" algn="ctr">
              <a:spcBef>
                <a:spcPts val="300"/>
              </a:spcBef>
              <a:buClr>
                <a:srgbClr val="53548a"/>
              </a:buClr>
              <a:buFont typeface="Wingdings 2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4" marL="343080" indent="-343080" algn="ctr">
              <a:spcBef>
                <a:spcPts val="300"/>
              </a:spcBef>
              <a:buClr>
                <a:srgbClr val="a04da3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5" marL="343080" indent="-343080" algn="ctr">
              <a:spcBef>
                <a:spcPts val="300"/>
              </a:spcBef>
              <a:buClr>
                <a:srgbClr val="ffffff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6" marL="343080" indent="-343080" algn="ctr">
              <a:spcBef>
                <a:spcPts val="300"/>
              </a:spcBef>
              <a:buClr>
                <a:srgbClr val="ffffff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5F12-188D-470B-B15F-0DC96B843FB4}" type="slidenum">
              <a:rPr b="0" lang="ko-KR" sz="2400" spc="-1" strike="noStrike">
                <a:solidFill>
                  <a:srgbClr val="000000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1" marL="343080" indent="-343080" algn="ctr"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2" marL="343080" indent="-343080" algn="ctr">
              <a:spcBef>
                <a:spcPts val="300"/>
              </a:spcBef>
              <a:buClr>
                <a:srgbClr val="53548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3" marL="343080" indent="-343080" algn="ctr">
              <a:spcBef>
                <a:spcPts val="300"/>
              </a:spcBef>
              <a:buClr>
                <a:srgbClr val="53548a"/>
              </a:buClr>
              <a:buFont typeface="Wingdings 2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4" marL="343080" indent="-343080" algn="ctr">
              <a:spcBef>
                <a:spcPts val="300"/>
              </a:spcBef>
              <a:buClr>
                <a:srgbClr val="a04da3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5" marL="343080" indent="-343080" algn="ctr">
              <a:spcBef>
                <a:spcPts val="300"/>
              </a:spcBef>
              <a:buClr>
                <a:srgbClr val="ffffff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6" marL="343080" indent="-343080" algn="ctr">
              <a:spcBef>
                <a:spcPts val="300"/>
              </a:spcBef>
              <a:buClr>
                <a:srgbClr val="ffffff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FD11-56E4-4E32-82C8-FBE355BAE873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1" marL="343080" indent="-343080" algn="ctr"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2" marL="343080" indent="-343080" algn="ctr">
              <a:spcBef>
                <a:spcPts val="300"/>
              </a:spcBef>
              <a:buClr>
                <a:srgbClr val="53548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3" marL="343080" indent="-343080" algn="ctr">
              <a:spcBef>
                <a:spcPts val="300"/>
              </a:spcBef>
              <a:buClr>
                <a:srgbClr val="53548a"/>
              </a:buClr>
              <a:buFont typeface="Wingdings 2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4" marL="343080" indent="-343080" algn="ctr">
              <a:spcBef>
                <a:spcPts val="300"/>
              </a:spcBef>
              <a:buClr>
                <a:srgbClr val="a04da3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5" marL="343080" indent="-343080" algn="ctr">
              <a:spcBef>
                <a:spcPts val="300"/>
              </a:spcBef>
              <a:buClr>
                <a:srgbClr val="ffffff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lvl="6" marL="343080" indent="-343080" algn="ctr">
              <a:spcBef>
                <a:spcPts val="300"/>
              </a:spcBef>
              <a:buClr>
                <a:srgbClr val="ffffff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9FB0-D663-4898-AA68-73C997D3566B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ngenious.org.uk/See/?target=SeeMedium&amp;ObjectID=%7B5ADE6355-B01E-F295-8CCB-ECEAFC9BBDF5%7D&amp;Mode=HotBox&amp;ArticleID=%7B8602B302-C162-4E6D-9E4F-B95F0BAE1DEC%7D&amp;viewby=images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920"/>
            <a:ext cx="8458200" cy="13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0" spc="-1" strike="noStrike">
                <a:solidFill>
                  <a:srgbClr val="438086"/>
                </a:solidFill>
                <a:latin typeface="Trebuchet MS"/>
              </a:rPr>
              <a:t>라부아지에와 화학 혁명</a:t>
            </a:r>
            <a:endParaRPr b="1" lang="en-US" sz="6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Georgia"/>
              </a:rPr>
              <a:t>2013</a:t>
            </a:r>
            <a:r>
              <a:rPr b="0" lang="ko-KR" sz="2400" spc="-1" strike="noStrike">
                <a:solidFill>
                  <a:srgbClr val="dedede"/>
                </a:solidFill>
                <a:latin typeface="Georgia"/>
              </a:rPr>
              <a:t>년 </a:t>
            </a:r>
            <a:r>
              <a:rPr b="0" lang="en-US" sz="2400" spc="-1" strike="noStrike">
                <a:solidFill>
                  <a:srgbClr val="dedede"/>
                </a:solidFill>
                <a:latin typeface="Georgia"/>
              </a:rPr>
              <a:t>10</a:t>
            </a:r>
            <a:r>
              <a:rPr b="0" lang="ko-KR" sz="2400" spc="-1" strike="noStrike">
                <a:solidFill>
                  <a:srgbClr val="dedede"/>
                </a:solidFill>
                <a:latin typeface="Georgia"/>
              </a:rPr>
              <a:t>월 </a:t>
            </a:r>
            <a:r>
              <a:rPr b="0" lang="en-US" sz="2400" spc="-1" strike="noStrike">
                <a:solidFill>
                  <a:srgbClr val="dedede"/>
                </a:solidFill>
                <a:latin typeface="Georgia"/>
              </a:rPr>
              <a:t>10</a:t>
            </a:r>
            <a:r>
              <a:rPr b="0" lang="ko-KR" sz="2400" spc="-1" strike="noStrike">
                <a:solidFill>
                  <a:srgbClr val="dedede"/>
                </a:solidFill>
                <a:latin typeface="Georgia"/>
              </a:rPr>
              <a:t>일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dedede"/>
                </a:solidFill>
                <a:latin typeface="Georgia"/>
              </a:rPr>
              <a:t>정동욱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18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세기 독일의 분석화학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광업의 발달로 여러 물질의 구성물 분석 발전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슈탈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1660-1734)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이후 플로지스톤 이론 확립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281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플로지스톤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22160" y="486864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연소를 가능케 해주는 원리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연소 및 하소 시 물질에서 빠져나감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52" name="Picture 2" descr="http://t2.gstatic.com/images?q=tbn:ANd9GcRMwUOg_TQV_yvjIKc3dHDT_UXVmjrJjPFC8zfsU4HsoRKBCxd4fA"/>
          <p:cNvPicPr/>
          <p:nvPr/>
        </p:nvPicPr>
        <p:blipFill>
          <a:blip r:embed="rId1"/>
          <a:stretch/>
        </p:blipFill>
        <p:spPr>
          <a:xfrm>
            <a:off x="1547640" y="609480"/>
            <a:ext cx="61642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연소현상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나무 </a:t>
            </a:r>
            <a:r>
              <a:rPr b="0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플로지스톤 방출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 </a:t>
            </a:r>
            <a:r>
              <a:rPr b="0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재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하소현상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금속 </a:t>
            </a:r>
            <a:r>
              <a:rPr b="0" lang="ko-KR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플로지스톤 방출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 </a:t>
            </a:r>
            <a:r>
              <a:rPr b="0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금속재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불타는 초를 유리병으로 덮으면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잠시 후 유리병 내부의 플로지스톤 포화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더 이상 연소 불가능 </a:t>
            </a:r>
            <a:r>
              <a:rPr b="0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초가 꺼짐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389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프리스틀리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(1733-1804)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22160" y="587700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영국의 화학자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목사 겸 대중 과학 강연자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59" name="Picture 4" descr="Click for larger picture!"/>
          <p:cNvPicPr/>
          <p:nvPr/>
        </p:nvPicPr>
        <p:blipFill>
          <a:blip r:embed="rId1"/>
          <a:stretch/>
        </p:blipFill>
        <p:spPr>
          <a:xfrm>
            <a:off x="3059280" y="907920"/>
            <a:ext cx="3097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932000" y="5013360"/>
            <a:ext cx="35622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쥐와 초는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손상된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”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공기 생산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식물은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손상된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”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공기를 개선시켜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62" name="Picture 7" descr="priestleyexp"/>
          <p:cNvPicPr/>
          <p:nvPr/>
        </p:nvPicPr>
        <p:blipFill>
          <a:blip r:embed="rId1"/>
          <a:stretch/>
        </p:blipFill>
        <p:spPr>
          <a:xfrm>
            <a:off x="539640" y="692280"/>
            <a:ext cx="4300560" cy="57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‘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플로지스톤 없는 공기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’ 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(1774)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은재 고온 가열하여 수은과 함께 얻은 </a:t>
            </a:r>
            <a:r>
              <a:rPr b="1" lang="ko-KR" sz="2600" spc="-1" strike="noStrike" u="sng">
                <a:solidFill>
                  <a:srgbClr val="ffc000"/>
                </a:solidFill>
                <a:uFillTx/>
                <a:latin typeface="Georgia"/>
              </a:rPr>
              <a:t>새로운 공기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은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+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공기 </a:t>
            </a:r>
            <a:r>
              <a:rPr b="0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은재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+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플로지스톤 많은 공기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은재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+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플로지스톤 함유된 공기 </a:t>
            </a:r>
            <a:r>
              <a:rPr b="0" lang="ko-KR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은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+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플로지스톤 없는 공기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22160" y="414972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플로지스톤 없는 공기 </a:t>
            </a: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= </a:t>
            </a: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생명의 공기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69" name="Picture 9" descr="priestapp2"/>
          <p:cNvPicPr/>
          <p:nvPr/>
        </p:nvPicPr>
        <p:blipFill>
          <a:blip r:embed="rId1"/>
          <a:stretch/>
        </p:blipFill>
        <p:spPr>
          <a:xfrm>
            <a:off x="1258920" y="476280"/>
            <a:ext cx="6769080" cy="55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375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라부아지에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(1743-1794)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22160" y="573264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프랑스의 징세청부업자 겸 권위있는 과학자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72" name="Picture 5" descr="Lavoisier (17 ko)"/>
          <p:cNvPicPr/>
          <p:nvPr/>
        </p:nvPicPr>
        <p:blipFill>
          <a:blip r:embed="rId1"/>
          <a:stretch/>
        </p:blipFill>
        <p:spPr>
          <a:xfrm>
            <a:off x="2843280" y="765000"/>
            <a:ext cx="33066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보강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오늘 오후 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5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시 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418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호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다윈의 진화론도 진화한다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”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339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무게측정법</a:t>
            </a: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(gravimetric method)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22160" y="537336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반응 전후 반응물과 생성물의 무게 측정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&amp;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비교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기체의 무게까지 측정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 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고가의 정밀 장치 필요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75" name="Picture 6" descr="[Engraving]"/>
          <p:cNvPicPr/>
          <p:nvPr/>
        </p:nvPicPr>
        <p:blipFill>
          <a:blip r:embed="rId1"/>
          <a:stretch/>
        </p:blipFill>
        <p:spPr>
          <a:xfrm>
            <a:off x="1908000" y="620640"/>
            <a:ext cx="540072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금속 하소 전후 무게 분석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20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금속의 무게 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&lt;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금속재의 무게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수은의 무게 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&lt;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수은재의 무게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Georgia"/>
              </a:rPr>
              <a:t>금속 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Georgia"/>
              </a:rPr>
              <a:t>공기중의 </a:t>
            </a:r>
            <a:r>
              <a:rPr b="1" lang="ko-KR" sz="2400" spc="-1" strike="noStrike">
                <a:solidFill>
                  <a:srgbClr val="ffffff"/>
                </a:solidFill>
                <a:latin typeface="Georgia"/>
              </a:rPr>
              <a:t>무언가</a:t>
            </a:r>
            <a:r>
              <a:rPr b="0" lang="ko-KR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= </a:t>
            </a:r>
            <a:r>
              <a:rPr b="0" lang="ko-KR" sz="2400" spc="-1" strike="noStrike">
                <a:solidFill>
                  <a:srgbClr val="ffffff"/>
                </a:solidFill>
                <a:latin typeface="Georgia"/>
              </a:rPr>
              <a:t>금속재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프리스틀리의 파리 방문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(1774)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22160" y="3366720"/>
            <a:ext cx="7772400" cy="30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ffc000"/>
                </a:solidFill>
                <a:latin typeface="Georgia"/>
              </a:rPr>
              <a:t>수은재 가열하여 </a:t>
            </a:r>
            <a:r>
              <a:rPr b="0" lang="en-US" sz="2300" spc="-1" strike="noStrike">
                <a:solidFill>
                  <a:srgbClr val="ffc000"/>
                </a:solidFill>
                <a:latin typeface="Georgia"/>
              </a:rPr>
              <a:t>‘</a:t>
            </a:r>
            <a:r>
              <a:rPr b="0" lang="ko-KR" sz="2300" spc="-1" strike="noStrike">
                <a:solidFill>
                  <a:srgbClr val="ffc000"/>
                </a:solidFill>
                <a:latin typeface="Georgia"/>
              </a:rPr>
              <a:t>플로지스톤 없는</a:t>
            </a:r>
            <a:r>
              <a:rPr b="0" lang="en-US" sz="23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300" spc="-1" strike="noStrike">
                <a:solidFill>
                  <a:srgbClr val="ffc000"/>
                </a:solidFill>
                <a:latin typeface="Georgia"/>
              </a:rPr>
              <a:t>공기</a:t>
            </a:r>
            <a:r>
              <a:rPr b="0" lang="en-US" sz="2300" spc="-1" strike="noStrike">
                <a:solidFill>
                  <a:srgbClr val="ffc000"/>
                </a:solidFill>
                <a:latin typeface="Georgia"/>
              </a:rPr>
              <a:t>’ </a:t>
            </a:r>
            <a:r>
              <a:rPr b="0" lang="ko-KR" sz="2300" spc="-1" strike="noStrike">
                <a:solidFill>
                  <a:srgbClr val="ffc000"/>
                </a:solidFill>
                <a:latin typeface="Georgia"/>
              </a:rPr>
              <a:t>얻는 실험 목격</a:t>
            </a:r>
            <a:endParaRPr b="0" lang="en-US" sz="23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Georgia"/>
              </a:rPr>
              <a:t>라부아지에의 아이디어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ffffff"/>
                </a:solidFill>
                <a:latin typeface="Georgia"/>
              </a:rPr>
              <a:t>앞서의 </a:t>
            </a:r>
            <a:r>
              <a:rPr b="1" lang="ko-KR" sz="2300" spc="-1" strike="noStrike">
                <a:solidFill>
                  <a:srgbClr val="ffffff"/>
                </a:solidFill>
                <a:latin typeface="Georgia"/>
              </a:rPr>
              <a:t>무언가</a:t>
            </a:r>
            <a:r>
              <a:rPr b="0" lang="ko-KR" sz="23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Georgia"/>
              </a:rPr>
              <a:t>= </a:t>
            </a:r>
            <a:r>
              <a:rPr b="0" lang="ko-KR" sz="2300" spc="-1" strike="noStrike">
                <a:solidFill>
                  <a:srgbClr val="ffffff"/>
                </a:solidFill>
                <a:latin typeface="Georgia"/>
              </a:rPr>
              <a:t>프리스틀리의 </a:t>
            </a:r>
            <a:r>
              <a:rPr b="0" lang="en-US" sz="2300" spc="-1" strike="noStrike">
                <a:solidFill>
                  <a:srgbClr val="ffffff"/>
                </a:solidFill>
                <a:latin typeface="Georgia"/>
              </a:rPr>
              <a:t>‘</a:t>
            </a:r>
            <a:r>
              <a:rPr b="0" lang="ko-KR" sz="2300" spc="-1" strike="noStrike">
                <a:solidFill>
                  <a:srgbClr val="ffffff"/>
                </a:solidFill>
                <a:latin typeface="Georgia"/>
              </a:rPr>
              <a:t>플로지스톤 없는 공기</a:t>
            </a:r>
            <a:r>
              <a:rPr b="0" lang="en-US" sz="2300" spc="-1" strike="noStrike">
                <a:solidFill>
                  <a:srgbClr val="ffffff"/>
                </a:solidFill>
                <a:latin typeface="Georgia"/>
              </a:rPr>
              <a:t>’</a:t>
            </a:r>
            <a:endParaRPr b="0" lang="en-US" sz="23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수은 하소에 대한 새로운 이론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30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은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+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공기 중의 무언가 </a:t>
            </a:r>
            <a:r>
              <a:rPr b="0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가열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</a:t>
            </a:r>
            <a:r>
              <a:rPr b="0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은재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은재 </a:t>
            </a:r>
            <a:r>
              <a:rPr b="0" lang="ko-KR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가열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</a:t>
            </a:r>
            <a:r>
              <a:rPr b="0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은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+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공기 중의 무언가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Georgia"/>
              </a:rPr>
              <a:t>어떻게 입증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? 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Georgia"/>
              </a:rPr>
              <a:t>반응 전후 고체 무게 측정 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&amp; </a:t>
            </a:r>
            <a:r>
              <a:rPr b="0" lang="ko-KR" sz="2600" spc="-1" strike="noStrike">
                <a:solidFill>
                  <a:srgbClr val="ffffff"/>
                </a:solidFill>
                <a:latin typeface="Georgia"/>
              </a:rPr>
              <a:t>기체 부피 변화 측정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수은을 </a:t>
            </a: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A</a:t>
            </a: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에 넣고 가열하면 </a:t>
            </a:r>
            <a:br>
              <a:rPr sz="3000"/>
            </a:b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오른쪽 유리병의 기체 부피 감소</a:t>
            </a: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(8 in</a:t>
            </a:r>
            <a:r>
              <a:rPr b="1" lang="en-US" sz="3000" spc="-1" strike="noStrike" baseline="30000">
                <a:solidFill>
                  <a:srgbClr val="ffffff"/>
                </a:solidFill>
                <a:latin typeface="Trebuchet MS"/>
              </a:rPr>
              <a:t>3</a:t>
            </a: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84" name="Picture 5" descr="LavoisierHgCalx"/>
          <p:cNvPicPr/>
          <p:nvPr/>
        </p:nvPicPr>
        <p:blipFill>
          <a:blip r:embed="rId1"/>
          <a:stretch/>
        </p:blipFill>
        <p:spPr>
          <a:xfrm>
            <a:off x="1476360" y="981000"/>
            <a:ext cx="640872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수은재를 </a:t>
            </a: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N</a:t>
            </a: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에 넣고 가열하면</a:t>
            </a:r>
            <a:br>
              <a:rPr sz="3000"/>
            </a:b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유리병의 기체 부피 증가 </a:t>
            </a: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(8 in</a:t>
            </a:r>
            <a:r>
              <a:rPr b="1" lang="en-US" sz="3000" spc="-1" strike="noStrike" baseline="30000">
                <a:solidFill>
                  <a:srgbClr val="ffffff"/>
                </a:solidFill>
                <a:latin typeface="Trebuchet MS"/>
              </a:rPr>
              <a:t>3</a:t>
            </a: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87" name="Picture 7" descr="LavoisierHgCalx into Hg"/>
          <p:cNvPicPr/>
          <p:nvPr/>
        </p:nvPicPr>
        <p:blipFill>
          <a:blip r:embed="rId1"/>
          <a:stretch/>
        </p:blipFill>
        <p:spPr>
          <a:xfrm>
            <a:off x="2124000" y="1052640"/>
            <a:ext cx="496908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22160" y="3366720"/>
            <a:ext cx="7772400" cy="23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질량 증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기체부피 감소   질량 감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기체부피 증가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고체 질량 증가분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=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고체 질량 감소분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기체 부피 감소분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=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기체 부피 증가분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90" name="Picture 6" descr="mercury into mercury oxide"/>
          <p:cNvPicPr/>
          <p:nvPr/>
        </p:nvPicPr>
        <p:blipFill>
          <a:blip r:embed="rId1"/>
          <a:stretch/>
        </p:blipFill>
        <p:spPr>
          <a:xfrm>
            <a:off x="684360" y="1484280"/>
            <a:ext cx="3816360" cy="18306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mercury oxide into mercury"/>
          <p:cNvPicPr/>
          <p:nvPr/>
        </p:nvPicPr>
        <p:blipFill>
          <a:blip r:embed="rId2"/>
          <a:stretch/>
        </p:blipFill>
        <p:spPr>
          <a:xfrm>
            <a:off x="4716360" y="1484280"/>
            <a:ext cx="388944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무언가 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– ‘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산소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’ 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명명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은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+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산소 </a:t>
            </a:r>
            <a:r>
              <a:rPr b="0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가열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</a:t>
            </a:r>
            <a:r>
              <a:rPr b="0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은재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은재 </a:t>
            </a:r>
            <a:r>
              <a:rPr b="0" lang="ko-KR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가열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</a:t>
            </a:r>
            <a:r>
              <a:rPr b="0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은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+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산소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연소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(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하소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)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란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22160" y="3366720"/>
            <a:ext cx="7772400" cy="25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물질에서 무언가가 방출되는 것이 아님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물질이 공기 중의 산소와 결합하는 것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lvl="1"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산소와의 결합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/</a:t>
            </a: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분해라는 틀을 이용해</a:t>
            </a:r>
            <a:endParaRPr b="0" lang="en-US" sz="2200" spc="-1" strike="noStrike">
              <a:solidFill>
                <a:srgbClr val="92d050"/>
              </a:solidFill>
              <a:latin typeface="Georgia"/>
            </a:endParaRPr>
          </a:p>
          <a:p>
            <a:pPr lvl="1"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연소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, </a:t>
            </a: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호흡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, </a:t>
            </a: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산화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, </a:t>
            </a: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환원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, </a:t>
            </a: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산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-</a:t>
            </a: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염기 이론 통일</a:t>
            </a:r>
            <a:endParaRPr b="0" lang="en-US" sz="2200" spc="-1" strike="noStrike">
              <a:solidFill>
                <a:srgbClr val="92d05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22160" y="836280"/>
            <a:ext cx="7772400" cy="18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거부 반응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22160" y="2852280"/>
            <a:ext cx="7772400" cy="20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화학반응 과정에서 성질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모양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색깔 등등이 다 바뀌는데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무게라고 바뀌지 못한다는 법이 어디 있는가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92d050"/>
              </a:solidFill>
              <a:latin typeface="Georgia"/>
            </a:endParaRPr>
          </a:p>
          <a:p>
            <a:pPr lvl="1" marL="743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2d050"/>
              </a:solidFill>
              <a:latin typeface="Georgia"/>
            </a:endParaRPr>
          </a:p>
          <a:p>
            <a:pPr lvl="1" marL="743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용기를 통과할 수 있는 다른 존재자들이 무게에 영향을 줄 수도 있지 않겠는가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92d05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중간시험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10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월 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17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일 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11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시 </a:t>
            </a:r>
            <a:r>
              <a:rPr b="0" lang="en-US" sz="2800" spc="-1" strike="noStrike">
                <a:solidFill>
                  <a:srgbClr val="ffc000"/>
                </a:solidFill>
                <a:latin typeface="Georgia"/>
              </a:rPr>
              <a:t>418</a:t>
            </a:r>
            <a:r>
              <a:rPr b="0" lang="ko-KR" sz="2800" spc="-1" strike="noStrike">
                <a:solidFill>
                  <a:srgbClr val="ffc000"/>
                </a:solidFill>
                <a:latin typeface="Georgia"/>
              </a:rPr>
              <a:t>호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물은 원소가 아니라 화합물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!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30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가연성 공기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15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그레인과 생명의 공기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85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그레인을 함께 태워 정확히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100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그레인의 물을 얻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분해의 방법으로 동일한 원소들을 똑같은 비율로 되찾을 수 있다는 것을 보고 나서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어떻게 그 이론을 의심할 수 있겠는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” 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라부아지에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1787)</a:t>
            </a:r>
            <a:endParaRPr b="0" lang="en-US" sz="2600" spc="-1" strike="noStrike">
              <a:solidFill>
                <a:srgbClr val="c991cb"/>
              </a:solidFill>
              <a:latin typeface="Georgia"/>
            </a:endParaRPr>
          </a:p>
          <a:p>
            <a:pPr lvl="2"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991cb"/>
              </a:solidFill>
              <a:latin typeface="Georgia"/>
            </a:endParaRPr>
          </a:p>
          <a:p>
            <a:pPr lvl="2"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Georgia"/>
              </a:rPr>
              <a:t>수소 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ffffff"/>
                </a:solidFill>
                <a:latin typeface="Georgia"/>
              </a:rPr>
              <a:t>산소 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: </a:t>
            </a:r>
            <a:r>
              <a:rPr b="0" lang="ko-KR" sz="2600" spc="-1" strike="noStrike">
                <a:solidFill>
                  <a:srgbClr val="ffffff"/>
                </a:solidFill>
                <a:latin typeface="Georgia"/>
              </a:rPr>
              <a:t>물 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= 15 : 85 : 100</a:t>
            </a:r>
            <a:endParaRPr b="0" lang="en-US" sz="2600" spc="-1" strike="noStrike">
              <a:solidFill>
                <a:srgbClr val="c991cb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356000" y="1980720"/>
            <a:ext cx="4138560" cy="310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rebuchet MS"/>
              </a:rPr>
              <a:t>《</a:t>
            </a:r>
            <a:r>
              <a:rPr b="1" lang="ko-KR" sz="3700" spc="-1" strike="noStrike">
                <a:solidFill>
                  <a:srgbClr val="ffffff"/>
                </a:solidFill>
                <a:latin typeface="Trebuchet MS"/>
              </a:rPr>
              <a:t>화학원론</a:t>
            </a:r>
            <a:r>
              <a:rPr b="1" lang="en-US" sz="3700" spc="-1" strike="noStrike">
                <a:solidFill>
                  <a:srgbClr val="ffffff"/>
                </a:solidFill>
                <a:latin typeface="Trebuchet MS"/>
              </a:rPr>
              <a:t>》</a:t>
            </a:r>
            <a:r>
              <a:rPr b="1" lang="en-US" sz="3700" spc="-1" strike="noStrike">
                <a:solidFill>
                  <a:srgbClr val="ffffff"/>
                </a:solidFill>
                <a:latin typeface="Trebuchet MS"/>
              </a:rPr>
              <a:t>(1789)</a:t>
            </a:r>
            <a:endParaRPr b="1" lang="en-US" sz="37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427280" y="5157360"/>
            <a:ext cx="40669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산소 연소 이론 주장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체계적인 원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및 화합물 명명법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화학반응식 도입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302" name="Picture 6" descr="traite de chimie 1"/>
          <p:cNvPicPr/>
          <p:nvPr/>
        </p:nvPicPr>
        <p:blipFill>
          <a:blip r:embed="rId1"/>
          <a:stretch/>
        </p:blipFill>
        <p:spPr>
          <a:xfrm>
            <a:off x="684360" y="620640"/>
            <a:ext cx="360036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389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원소 </a:t>
            </a: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33</a:t>
            </a: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종에 대해 새롭게 명명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22160" y="580500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빛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열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산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질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소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…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305" name="Picture 4" descr="Lavoisier's Table of Simple Substances"/>
          <p:cNvPicPr/>
          <p:nvPr/>
        </p:nvPicPr>
        <p:blipFill>
          <a:blip r:embed="rId1"/>
          <a:srcRect l="0" t="0" r="0" b="55622"/>
          <a:stretch/>
        </p:blipFill>
        <p:spPr>
          <a:xfrm>
            <a:off x="2195640" y="549360"/>
            <a:ext cx="4698720" cy="4597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425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화합물</a:t>
            </a: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: </a:t>
            </a: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관용명 대신 구성 원소에 따라 명명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22160" y="623736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아연꽃 </a:t>
            </a:r>
            <a:r>
              <a:rPr b="0" lang="en-US" sz="20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산화아연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/ </a:t>
            </a: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고정된 공기 </a:t>
            </a:r>
            <a:r>
              <a:rPr b="0" lang="ko-KR" sz="20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산화탄소 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/ </a:t>
            </a: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비트리올 </a:t>
            </a:r>
            <a:r>
              <a:rPr b="0" lang="ko-KR" sz="20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황산</a:t>
            </a:r>
            <a:endParaRPr b="0" lang="en-US" sz="20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308" name="Picture 5" descr="Lavoisier's Table of the combinations of Oxygen with the compound radicals"/>
          <p:cNvPicPr/>
          <p:nvPr/>
        </p:nvPicPr>
        <p:blipFill>
          <a:blip r:embed="rId1"/>
          <a:srcRect l="0" t="0" r="0" b="19331"/>
          <a:stretch/>
        </p:blipFill>
        <p:spPr>
          <a:xfrm>
            <a:off x="2411280" y="333360"/>
            <a:ext cx="4105440" cy="5202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317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화학반응식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22160" y="522900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반응물과 생성물 사이의 정량적인 등식 성립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311" name="Picture 7" descr="Equazione stechiometrica pubblicata da Lavoisier"/>
          <p:cNvPicPr/>
          <p:nvPr/>
        </p:nvPicPr>
        <p:blipFill>
          <a:blip r:embed="rId1"/>
          <a:stretch/>
        </p:blipFill>
        <p:spPr>
          <a:xfrm>
            <a:off x="755640" y="1341360"/>
            <a:ext cx="77281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화학혁명의 빛과 그림자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22160" y="3366720"/>
            <a:ext cx="7772400" cy="23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4</a:t>
            </a: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원소설의 대체와 산소 연소 이론의 확립</a:t>
            </a:r>
            <a:endParaRPr b="0" lang="en-US" sz="20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질량 보존의 법칙 확립과 무게측정을 이용한 물질 분석 방식 확립</a:t>
            </a:r>
            <a:endParaRPr b="0" lang="en-US" sz="20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원소들이 일정한 비율로 결합한 결과물로서의 화합물 개념 확립과 이를 반영한 체계적인 명명법과 화학반응식 확립</a:t>
            </a:r>
            <a:endParaRPr b="0" lang="en-US" sz="20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물질의 성질을 연구하는 화학의 목적은 버려짐</a:t>
            </a:r>
            <a:endParaRPr b="0" lang="en-US" sz="20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55640" y="1773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아리스토텔레스의 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4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원소설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4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원소와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4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성질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29" name="Picture 4" descr="Scan0036"/>
          <p:cNvPicPr/>
          <p:nvPr/>
        </p:nvPicPr>
        <p:blipFill>
          <a:blip r:embed="rId1"/>
          <a:stretch/>
        </p:blipFill>
        <p:spPr>
          <a:xfrm>
            <a:off x="1908000" y="692280"/>
            <a:ext cx="5472360" cy="497016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5"/>
          <p:cNvSpPr/>
          <p:nvPr/>
        </p:nvSpPr>
        <p:spPr>
          <a:xfrm>
            <a:off x="5219640" y="3860640"/>
            <a:ext cx="35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389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이슬람 연금술의 발전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22160" y="595008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실험 도구와 방법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용어 개발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&amp;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다양한 물질 추출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33" name="Picture 4" descr="Islamic sublimation and alembic apparatus, 10th-12th century.">
            <a:hlinkClick r:id="rId1"/>
          </p:cNvPr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250920" y="836640"/>
            <a:ext cx="2985840" cy="41767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http://www.the-spoiler.com/ADVENTURE/Her.interactive/nancy.drew.curse.of.blackmoor.manor.1/NDcurse/planetsdoor.jpg"/>
          <p:cNvPicPr/>
          <p:nvPr/>
        </p:nvPicPr>
        <p:blipFill>
          <a:blip r:embed="rId3"/>
          <a:stretch/>
        </p:blipFill>
        <p:spPr>
          <a:xfrm>
            <a:off x="7812000" y="836640"/>
            <a:ext cx="1332000" cy="2736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http://www.the-spoiler.com/ADVENTURE/Her.interactive/nancy.drew.curse.of.blackmoor.manor.1/NDcurse/elements.jpg"/>
          <p:cNvPicPr/>
          <p:nvPr/>
        </p:nvPicPr>
        <p:blipFill>
          <a:blip r:embed="rId4"/>
          <a:srcRect l="0" t="0" r="0" b="51548"/>
          <a:stretch/>
        </p:blipFill>
        <p:spPr>
          <a:xfrm>
            <a:off x="3348000" y="836640"/>
            <a:ext cx="4176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공기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(air)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에서 기체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(gas)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로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반 헬몬트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1579-1644)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의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나무 기체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”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≠ 공기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38" name="Picture 2" descr="http://2.bp.blogspot.com/_csrew_uNe9k/TJBmqnNRJrI/AAAAAAAADkU/JcEz7s7Ga0c/s400/jean+baptiste+van+helmont+-+willow2.gif"/>
          <p:cNvPicPr/>
          <p:nvPr/>
        </p:nvPicPr>
        <p:blipFill>
          <a:blip r:embed="rId1"/>
          <a:stretch/>
        </p:blipFill>
        <p:spPr>
          <a:xfrm>
            <a:off x="1211400" y="4221000"/>
            <a:ext cx="4297320" cy="1944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http://c.ask.nate.com/imgs/qrsi.php/8380767/10925005/0/1/A/01.jpg"/>
          <p:cNvPicPr/>
          <p:nvPr/>
        </p:nvPicPr>
        <p:blipFill>
          <a:blip r:embed="rId2"/>
          <a:stretch/>
        </p:blipFill>
        <p:spPr>
          <a:xfrm>
            <a:off x="5651640" y="4149720"/>
            <a:ext cx="27842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http://static.guim.co.uk/Guardian/artanddesign/gallery/2008/oct/28/1000-artworks-to-see-before-you-die-art1/GD7816824@BAL5872-An-Experiment-2252.jpg"/>
          <p:cNvPicPr/>
          <p:nvPr/>
        </p:nvPicPr>
        <p:blipFill>
          <a:blip r:embed="rId1"/>
          <a:stretch/>
        </p:blipFill>
        <p:spPr>
          <a:xfrm>
            <a:off x="0" y="0"/>
            <a:ext cx="921384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공기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/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진공을 이용한 실험들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18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세기 영국의 기체화학</a:t>
            </a:r>
            <a:endParaRPr b="1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25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헤일즈의 개방형 압력계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&amp;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기체수집기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1727)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이후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다양한 기체의 분리 및 성질 연구 전통 확립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067280" y="4723920"/>
            <a:ext cx="44272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c000"/>
                </a:solidFill>
                <a:latin typeface="Georgia"/>
              </a:rPr>
              <a:t>고정된 공기</a:t>
            </a:r>
            <a:r>
              <a:rPr b="0" lang="en-US" sz="18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1800" spc="-1" strike="noStrike">
                <a:solidFill>
                  <a:srgbClr val="ffc000"/>
                </a:solidFill>
                <a:latin typeface="Georgia"/>
              </a:rPr>
              <a:t>조지프 블랙</a:t>
            </a:r>
            <a:r>
              <a:rPr b="0" lang="en-US" sz="1800" spc="-1" strike="noStrike">
                <a:solidFill>
                  <a:srgbClr val="ffc000"/>
                </a:solidFill>
                <a:latin typeface="Georgia"/>
              </a:rPr>
              <a:t>, 1756)</a:t>
            </a:r>
            <a:endParaRPr b="0" lang="en-US" sz="1800" spc="-1" strike="noStrike">
              <a:solidFill>
                <a:srgbClr val="ffc000"/>
              </a:solidFill>
              <a:latin typeface="Georgia"/>
            </a:endParaRPr>
          </a:p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c000"/>
                </a:solidFill>
                <a:latin typeface="Georgia"/>
              </a:rPr>
              <a:t>가연성 공기</a:t>
            </a:r>
            <a:r>
              <a:rPr b="0" lang="en-US" sz="18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1800" spc="-1" strike="noStrike">
                <a:solidFill>
                  <a:srgbClr val="ffc000"/>
                </a:solidFill>
                <a:latin typeface="Georgia"/>
              </a:rPr>
              <a:t>헨리 캐븐디쉬</a:t>
            </a:r>
            <a:r>
              <a:rPr b="0" lang="en-US" sz="1800" spc="-1" strike="noStrike">
                <a:solidFill>
                  <a:srgbClr val="ffc000"/>
                </a:solidFill>
                <a:latin typeface="Georgia"/>
              </a:rPr>
              <a:t>, 1776)</a:t>
            </a:r>
            <a:endParaRPr b="0" lang="en-US" sz="1800" spc="-1" strike="noStrike">
              <a:solidFill>
                <a:srgbClr val="ffc000"/>
              </a:solidFill>
              <a:latin typeface="Georgia"/>
            </a:endParaRPr>
          </a:p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c000"/>
                </a:solidFill>
                <a:latin typeface="Georgia"/>
              </a:rPr>
              <a:t>나빠진 공기</a:t>
            </a:r>
            <a:r>
              <a:rPr b="0" lang="en-US" sz="18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1800" spc="-1" strike="noStrike">
                <a:solidFill>
                  <a:srgbClr val="ffc000"/>
                </a:solidFill>
                <a:latin typeface="Georgia"/>
              </a:rPr>
              <a:t>조지프 프리스틀리</a:t>
            </a:r>
            <a:r>
              <a:rPr b="0" lang="en-US" sz="1800" spc="-1" strike="noStrike">
                <a:solidFill>
                  <a:srgbClr val="ffc000"/>
                </a:solidFill>
                <a:latin typeface="Georgia"/>
              </a:rPr>
              <a:t>, 1770s)</a:t>
            </a:r>
            <a:endParaRPr b="0" lang="en-US" sz="1800" spc="-1" strike="noStrike">
              <a:solidFill>
                <a:srgbClr val="ffc000"/>
              </a:solidFill>
              <a:latin typeface="Georgia"/>
            </a:endParaRPr>
          </a:p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c000"/>
                </a:solidFill>
                <a:latin typeface="Georgia"/>
              </a:rPr>
              <a:t>생명의 공기</a:t>
            </a:r>
            <a:r>
              <a:rPr b="0" lang="en-US" sz="18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1800" spc="-1" strike="noStrike">
                <a:solidFill>
                  <a:srgbClr val="ffc000"/>
                </a:solidFill>
                <a:latin typeface="Georgia"/>
              </a:rPr>
              <a:t>쉘레</a:t>
            </a:r>
            <a:r>
              <a:rPr b="0" lang="en-US" sz="18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1800" spc="-1" strike="noStrike">
                <a:solidFill>
                  <a:srgbClr val="ffc000"/>
                </a:solidFill>
                <a:latin typeface="Georgia"/>
              </a:rPr>
              <a:t>프리스틀리</a:t>
            </a:r>
            <a:r>
              <a:rPr b="0" lang="en-US" sz="1800" spc="-1" strike="noStrike">
                <a:solidFill>
                  <a:srgbClr val="ffc000"/>
                </a:solidFill>
                <a:latin typeface="Georgia"/>
              </a:rPr>
              <a:t>, 1770s)</a:t>
            </a:r>
            <a:r>
              <a:rPr b="0" lang="ko-KR" sz="1800" spc="-1" strike="noStrike">
                <a:solidFill>
                  <a:srgbClr val="ffc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47" name="Picture 5" descr="http://m1.ikiwq.com/img/xl/UhyIgR9UayDNzTXXEXN4dd.jpg"/>
          <p:cNvPicPr/>
          <p:nvPr/>
        </p:nvPicPr>
        <p:blipFill>
          <a:blip r:embed="rId1"/>
          <a:stretch/>
        </p:blipFill>
        <p:spPr>
          <a:xfrm>
            <a:off x="666720" y="1981080"/>
            <a:ext cx="340056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05:18:02Z</dcterms:created>
  <dc:creator>zolaist</dc:creator>
  <dc:description/>
  <dc:language>en-US</dc:language>
  <cp:lastModifiedBy>DongWook Jung</cp:lastModifiedBy>
  <dcterms:modified xsi:type="dcterms:W3CDTF">2013-10-10T01:54:22Z</dcterms:modified>
  <cp:revision>67</cp:revision>
  <dc:subject/>
  <dc:title>라부아지에와 화학 혁명</dc:title>
</cp:coreProperties>
</file>